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AAA0-5D87-45A4-AB24-21DDC602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26CB-934A-49F5-8949-684956D2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BC71-3B8F-4565-B7F1-1B033EF3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B934-F5B4-423F-9013-A67863AC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3FB2-B080-4F5E-84A1-F12C9A42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0174-D603-4801-AD66-86D8B3FC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F8B3-D28B-484A-9CB1-A8135772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2045-18DA-4AEA-8EF4-CB0A237C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34A3-9CBA-4D43-8E8E-0B22D0A9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E03A-468B-41B6-9A74-95615FA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A100-002D-45B3-8575-2677ADD1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6060-E066-45F5-89BA-FA14A089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9FA8-8F9D-4EF9-A6A7-F6C22AB3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D98F-46F8-48A6-940A-1763440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01AE-1C2F-4A94-BE3B-246D980D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2F2-7B84-4063-AC8F-82A5051D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8E15-4A9F-4D7F-9924-FA3352F3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553E-CC10-46E9-860A-2A99F26C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76CD-8462-44AE-BEBC-6A7D371C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16E3-249A-41B4-9FAF-CA72C0A7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ACAE-74F1-41BE-A543-7835E905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6F2C-7F3E-4F1A-9C3C-309C92AB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5CB8-32EB-4FA5-9820-76DB2A2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6ECE-EBBC-448B-8F72-52BB51D1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1A52-5358-4C68-99EB-6E2C72B7D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B9D4-99FB-4525-8324-C5E6C3944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Crop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p Risk Plans (G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ke APH, but indemnities are paid based on county yields, not farm yie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P is less expensive and removes moral haz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P protection is less aligned with business risks of farm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estock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Gross Margin (LG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ttle, Dairy, Sw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difference between market price for outputs and fe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quantity or quality cover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ains a premium subsidy, unlike a futures hed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estock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Risk Protection (L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ailable for feeder cattle, fed cattle, lamb, &amp; sw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only against declines in market pr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eder cattle prices are drawn from C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s use USDA-AMS reports for pric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le Farm Revenue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justed Gross Revenue (AG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farmer’s Schedule F revenue for production not covered by other insur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quality &amp; quantity as well as 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vernment Programs to Manage Ris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are the ‘farm programs’ that most refer 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rograms are usually costless to beneficiaries, and often have few if any eligibility require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Payments (D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iginally known as the Agricultural Market Transition Payments, and were compensation for ending of farm programs in 1996 Farm Bil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Ps are made based on historical acreage allocations and yields, not on current practices (‘decoupled’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 for land used for fruit and vegetable production, on which DPs are not pa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fully WTO compliant as they are minimally trade (i.e. production) distor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an Deficiency Payments (LDP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n indirect price floor to covered cro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DPs are highly distorting instruments, as they blunt producer price sign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ce 2007, most prices have been far above LDP price guarantees, so they have had no effe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er Cyclical Payments (CC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ed in 2002 Farm B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lac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d ho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aster assistance to farmers in wake of late-90s Asian Financial Cri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payments of portion of difference between a target price set above cost of production and actual market p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are decoupled for WTO compli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Crop Revenue Election (AC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ed in 2008 Food, Conservation and Energy A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risk of systematic, multi-year declines in dem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made based on difference between target revenue (product of state yield and 5 year Olympic average of prices) and product of national price and state yie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iry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k Income Loss Con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based on difference between milk prices and a reference feed 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ly reduces profit volat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s incentives to adjust operations in response to changing market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s are set in statute, so cannot change with market con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15: The Policy of Risk Managemen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thew C. Robe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-Based 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and options have long been available to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available for major crops/livestock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often used directly by farmers, but very often by processors and intermedia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s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contracts are the oldest risk management instru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present, futures only offer ability to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contracts (Iowa yield) did not la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cannot manage quality risk, ei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h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h contracts are contracts directly between producers and consumers or process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in producers have many cash contract options, even other risk management tools ‘wrapped’ into cash con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dge-to-arrive contr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price contr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h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cting has become very common in pork and poultry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rms are highly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re in cattle due to high capital costs &amp; long production cy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production contracts are very contentio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later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rrent Controvers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 Impact of Spec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/Agricultural Price Corre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rgence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ct Pork and Poultry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er Ownership of Catt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Program Eligibility and Planting Restri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has been extensive attention to effects of speculation on price levels in commodity markets, and the extent to which speculation drove commodity price spike in 2006-2008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s and White typify speculation conc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nders, Irwin &amp; Merrin don’t find evidence of a speculative bub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theless, Dodd-Frank orders CFTC to pass and enforce position limits on speculat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rrelation of Energy and Ag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s in biofuels production have increased correlation between agricultural and energy mar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markets have traditionally been more volati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e end of 2011, two primary pieces of biofuels policy expired: Volumetric Ethanol Excise Tax Credit, and the tariff on imported ethan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vergence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006, CBOT Wheat futures stopp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ve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onvergenc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curs when the difference between the cash and futures prices falls to zero at the delivery point when futures expi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convergence calls into question the ability of the futures contract to reflect physical market fundamentals—it is a sign that needed arbitrage is not occur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007 &amp; 2008, similar behavior occurred in CBOT Corn and Soybean fu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vergence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BOT wheat contract has been modified twice in order to restore converg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09, more areas became deliver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11, Variable Storage Rate was introduced in which the maximum storage charged by elevators was allowed to adjust to market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2011, KCBOT wheat began to exhibit noncoverg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er Ownership of Catt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ead of cash purchases of fed cattle, some packers began to purchase feeder cattle and contract their fee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ers claim reduced risk and increased efficienc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edlots believe this creates market power for pack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is randomness i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Quant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at matter to those invol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ost firms and individuals are risk-averse: they prefer less risk to m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ting Restrictions and Program Eligi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upled payments—payments that are not tied to current production decisions—are permissible under WTO ru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Payments are the primary form of decoupled pay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the 1996, 2002, and 2008 do not allow DPs to be paid on land currently used for fruit or vegetable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portunities for Improved Collabo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ing Crop Insur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ifting Risk to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Understanding of Success/Failure of Fu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Understanding of Futures Delivery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fferentiates food productio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oods degrade with stor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is often substa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is often highly correlated among produc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is inela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ption is constant, but production is annual for many foodstuff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fferentiates food production? (cont’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ity of expenditures are early in production cycle. Harvest occurs weeks or months l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can be a vector of pathogen transmis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til Recently, Most Risk Management was Part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s existed to manage price ri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s existed to manage production ri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firms care abou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=Price*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for many commodities, the correlation is negative, so managing with only price &amp; production tools leads to costly overpro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sk Management Agency is ultimate guarantor of most Agricultural Insur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of 2012, more than 100 commodities cove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op Insur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ual Production History (AP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itional ‘yield’ insurance, payments made at an RMA-determined reference p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ield Protection (Y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ilar to APH, but the price is set based on current futures pr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op Insurance (2)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 Protection (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vers price*yield, but is therefore more expensiv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mers can insure at the ‘Enterprise’ (whole farm) level instead of the ‘Unit’ (field or sub-farm) level to reduce premium co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0T21:28:16Z</dcterms:modified>
  <cp:revision>34</cp:revision>
  <dc:subject/>
  <dc:title>U.S. Policies Affecting Food and Agricultural Marketing</dc:title>
</cp:coreProperties>
</file>